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F74-B8BC-4C36-9D4A-772111C8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835-BED7-4DA9-A7F4-351BD1F7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1D5-A002-4A7C-8BD0-46B3CDB3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6EB-CF4B-4815-B017-C0E68679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C524-481C-4AF3-8E12-A7B8858C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36E8-05E7-4F5D-B817-93FE543A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91AF-987A-4D70-9230-606C02CA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1572-478D-4FB6-B75B-5D54345A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EE3B-A294-49BD-B1C3-D9B6B1B4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41EC-50D8-4173-A002-751814A8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857A-5CC3-4C01-9D4B-A058A8F5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718-BE7B-4B79-AC67-566BCEBD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8521-2700-4EED-BA3C-59707A05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8204-E1F1-4D30-B92D-8DFC6FDF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9F8E-DB78-4A87-9EE3-6B32B5F5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5DE0-47C2-4AC4-8A51-7BE8A9A8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9799-8892-4C37-BC85-D22A031A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69A-8940-4763-B6DE-39FEE771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05B-33C5-4B42-B0FF-5C1E0CB4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2DC-CEAB-4545-89B8-B87863FE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9D1-AE13-437F-9A08-2CFDA272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F05E-1CFA-4FDD-89EC-533C7918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AEB-A195-42B8-ADAE-6142BCB8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EA5-5390-4D33-9142-EC9FE4F7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D694-61E7-47F5-B7EF-A19A0D8AC0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93D8-B92E-4000-8E82-BFFBEBB8D7E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 mirror the introduction in leng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 back to the quote, anecdote, scene, or profile that you used to begin the essay and make som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nal commenta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n the main purpose of the essay based on the information you’ve presented in the essay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 of Conclus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should do three thing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dgement, Culmination, Send-o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Judgm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al judgment on whatever question, issue, or problem the paper has focused up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connection with the introduction-repeating some of the key ter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les yes or no when considering the opening question or hypothe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licitly revisits the introductory claim for why the topic matt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 of Conclus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lmin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p or summit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ing things together and ascend to one final statement of your thin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d-off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final opening outward of the topic that leads the reader out of the paper with something further to think about but does not introduce a brand new top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speculation that you have earned the right to formul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t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ag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mm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gg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rsue Im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son inductively to consider broader issues, such as the study’s practical consequences or applications, or future-oriented issues, such as avenues for further research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e Full Cir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ify your paper by interpreting the results of your analysis in light of the context you established in your introdu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y Limi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knowledge restrictions of method or focus in your analysis, and qualify your conclusion (and its implications) according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Writing Analytically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David Rosenwasser and Jill Stephen 2006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57:57Z</dcterms:created>
  <dc:creator>klrodems</dc:creator>
  <dc:description/>
  <dc:language>en-US</dc:language>
  <cp:lastModifiedBy>Rodems, Kathy</cp:lastModifiedBy>
  <dcterms:modified xsi:type="dcterms:W3CDTF">2017-08-29T14:17:14Z</dcterms:modified>
  <cp:revision>12</cp:revision>
  <dc:subject/>
  <dc:title>Conclusions</dc:title>
</cp:coreProperties>
</file>